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D3B-3424-476F-A540-11E38EC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543-87B2-422E-B3E1-996E3CA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45E-8810-465B-8150-A679A22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EDE-6B80-497A-8149-B58F0EA8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48E-0798-4249-B60D-DEA96FF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F39-2A83-43D4-ABD3-A91C34E0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5C5-152B-49DD-9176-62823E8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529-E271-4C67-A7AD-06B6DF2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0B-97A6-4048-B342-1A18233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373-9129-467A-B668-90D42FD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0F6-89BF-4B47-968A-669D2BA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BBE-3444-4887-BBB1-A917181C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80D-BD89-4E99-97D7-628FFD1C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altagul</a:t>
            </a:r>
            <a:br>
              <a:rPr sz="4800"/>
            </a:br>
            <a:r>
              <a:rPr b="1" i="1" lang="ro-RO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Mihail Sadove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cena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 înmormântării şi îndeplinirii dreptăţii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739600">
            <a:off x="0" y="404280"/>
            <a:ext cx="259236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419000">
            <a:off x="7905240" y="399600"/>
            <a:ext cx="1238400" cy="9367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tretch/>
        </p:blipFill>
        <p:spPr>
          <a:xfrm rot="1018800">
            <a:off x="0" y="4221000"/>
            <a:ext cx="1424160" cy="2186280"/>
          </a:xfrm>
          <a:prstGeom prst="rect">
            <a:avLst/>
          </a:prstGeom>
          <a:ln w="0">
            <a:noFill/>
          </a:ln>
          <a:effectLst>
            <a:outerShdw dist="115171" dir="5023148" blurRad="0" rotWithShape="0">
              <a:srgbClr val="9966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n rolurile princip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itoria Lip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lexandra Gre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gz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lexandru Pa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ţu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Ciprian I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gustorul şi Hangiu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imona Lu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otu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ndrei Ch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ngiţa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ristina 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Halmi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ta de la han 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ristina I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tr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Dănuţ P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heorghiţ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Diana Gr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În urma reprezentării scenice, un elev realizează fotografii, care vor fi descărcate şi folosite apoi pentru realizarea prezentării scenetei în mod p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Fiecare fotografie va fi comentată, explicând ce secvenţă a scenetei reprezint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Ex. – secvenţa înmormântării lui Nechifor Li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63280" y="112500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Secvenţa demascării ucigaş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ffff"/>
                </a:solidFill>
                <a:latin typeface="Arial"/>
              </a:rPr>
              <a:t>Secvenţa pedepsirii ucigaş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18:16Z</dcterms:created>
  <dc:creator>IOANA</dc:creator>
  <dc:description/>
  <dc:language>en-US</dc:language>
  <cp:lastModifiedBy>ws04</cp:lastModifiedBy>
  <dcterms:modified xsi:type="dcterms:W3CDTF">2009-12-10T14:25:28Z</dcterms:modified>
  <cp:revision>4</cp:revision>
  <dc:subject/>
  <dc:title>Diapozitivul 1</dc:title>
</cp:coreProperties>
</file>